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reeze.wav" ContentType="audio/x-wav"/>
  <Override PartName="/ppt/media/arrow.wav" ContentType="audio/x-wav"/>
  <Override PartName="/ppt/media/drumroll.wav" ContentType="audio/x-wav"/>
  <Override PartName="/ppt/media/applause.wav" ContentType="audio/x-wav"/>
  <Override PartName="/ppt/media/cashreg.wav" ContentType="audio/x-wav"/>
  <Override PartName="/ppt/media/camera.wav" ContentType="audio/x-wav"/>
  <Override PartName="/ppt/media/explode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F5B-C447-4599-8FE6-273AC70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E7E-9891-48A0-8B22-D2192A0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E20-E954-449C-9D89-2500F02C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9B-4604-45E4-89C6-CE25377D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4149-9E4F-465A-B323-7511E71A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D786-07DD-4CD2-841E-7444F43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EEB-80B1-492E-A416-7F33269E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ADE-12A6-49B1-8E26-F2AB28C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B36-8F77-4C77-AAF8-2B36F99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3E73-B60B-4757-A5E9-0736A1D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E205-2BB4-433F-B7AC-DCF73E7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CF3-0126-4D3F-AC7C-FF5D3E7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CC89-9907-42BE-A83C-F2B8F52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ED5-008E-4526-9515-D5A875C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833-A586-4124-8851-29996A7C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41F-FC5A-4754-927F-857E9FA0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2D2B-85F9-4A07-9F7F-07A5FB2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984-B0EA-4F9A-966B-F519A9CA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A3A-8D34-47EB-9213-65A9168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ED9-5DA1-4636-B3D2-3768E8AE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EC8-AB9E-411F-876A-7357E35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429-5372-487E-8457-6614A08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A03-BB8A-4D65-94F9-AA071A6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53C-57BF-4A1A-A6C6-E169571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F76-1CF7-432F-B345-42E8649B3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557-3BAD-4450-934C-1A053D0C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actions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I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they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we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you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hammer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 This one is tricky because you can us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o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she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he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it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that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ntraction is one word that is made by putting together two separate words and shorten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Know Ho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about 70 contractions in the English languag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ntraction are made by leaving out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etters like the word she will (she’ll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contractions are missing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only on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ett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ds are squeezed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I and a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ever there is a contraction with I, I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must be capitaliz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will only us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ith I in a contraction.  Replace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ith an apostrophe. Squeeze the words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m = I’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1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she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he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it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t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that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a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they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we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you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click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wil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sh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I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they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w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h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you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it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coin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no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haven’t                             does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does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isn’t                                       do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do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hadn’t                                must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must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couldn’t                          w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would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shouldn’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+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can’t (leave out one of the n’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won’t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 willn’t!!!!!!!!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drumroll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v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I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they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we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you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explode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3:37:57Z</dcterms:created>
  <dc:creator>dyera</dc:creator>
  <dc:description/>
  <dc:language>en-US</dc:language>
  <cp:lastModifiedBy>Laura McDow</cp:lastModifiedBy>
  <dcterms:modified xsi:type="dcterms:W3CDTF">2010-09-21T15:17:28Z</dcterms:modified>
  <cp:revision>7</cp:revision>
  <dc:subject/>
  <dc:title>Contractions</dc:title>
</cp:coreProperties>
</file>